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D13A-1270-4C4B-9FD9-BBD6BC004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A565-D443-4890-8B0A-725554FF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83DB-6250-48FD-A597-B12EE372E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498A-BD34-483A-87BB-BC09FB2CE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42FE3-C3CE-4004-A170-93A913AD9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E3980-B46F-4EE5-9708-6C05257B0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7AC09-0791-400D-A2AB-F429534B9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12310-EAB0-44A9-B200-B9F846840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02C1A-89E2-4F2D-864A-75427BCFB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4BEBC-BC8C-4C32-A36E-7C32F71F9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76D2A-DE5F-402E-8063-5F34ECB8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6A6A-553C-4953-A88E-D56070D05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A678F-CD67-4D44-91FE-9E68EC36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186D9-A5E9-414F-B8F1-E04B1889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C07FA-9036-4000-80E6-15A4889BC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75195-7718-4BB1-A59D-C1FBDB165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E2D88-5B5C-413D-9D18-6E6BF3367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4B064-1F45-428E-9AA7-847822E4F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6C031-F240-45C0-8EDE-AB0F75291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57EE6-2355-497F-A14B-2105387FC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0628B-42CC-4D70-A618-22DD2272D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ACD0D-9737-43CE-AC62-D8B9E5782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69E6-AE05-4BD7-AE15-FB0A06C3D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81C46-3981-459D-81B6-5A29C8B2D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450C4-9859-4B01-B961-19F00BF2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F8827-9045-4F05-8772-19680B40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00037-075F-45B5-888D-C23CDBC7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55D72-AAFC-46EE-BA8B-1F58766AA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D277B-9DF7-4516-BA84-46C1EE0C0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C43BB-449F-41C2-9B45-B44C0BFB8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0D92-2EF0-4630-8B5E-C59D7FD52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10F2-82BD-472B-B6E9-3F620FE85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2B8A-1D50-4087-B4DE-F2DC93B9E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4303-C665-49DF-B10E-235B7A01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D7DC-B923-43C4-8A5E-C1C97F0C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799C-99C3-46D1-ADE8-44A57224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662C1-21C0-4824-846E-C3DCAB1310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5DEA1-F4A8-42B9-8AFA-AD4E47D4F9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8"/>
          <p:cNvSpPr/>
          <p:nvPr/>
        </p:nvSpPr>
        <p:spPr>
          <a:xfrm>
            <a:off x="457200" y="333360"/>
            <a:ext cx="8229600" cy="6081840"/>
          </a:xfrm>
          <a:prstGeom prst="rect">
            <a:avLst/>
          </a:prstGeom>
          <a:solidFill>
            <a:srgbClr val="ffffff">
              <a:alpha val="62000"/>
            </a:srgbClr>
          </a:solidFill>
          <a:ln w="12600">
            <a:solidFill>
              <a:srgbClr val="f4f0e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D55F0-EB63-4F41-A00E-902F867C87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4800" y="4331880"/>
            <a:ext cx="8120160" cy="117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Knightho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04800" y="5151600"/>
            <a:ext cx="8120160" cy="122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6b70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ty Python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 – 2 –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 - ways that the knight was accurately portray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 – examples of feudali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 – major inaccura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Denn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Black Knig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Rabb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Holy H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5" descr="peasants"/>
          <p:cNvPicPr/>
          <p:nvPr/>
        </p:nvPicPr>
        <p:blipFill>
          <a:blip r:embed="rId1"/>
          <a:stretch/>
        </p:blipFill>
        <p:spPr>
          <a:xfrm>
            <a:off x="4125960" y="3344760"/>
            <a:ext cx="5018040" cy="35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apanese Feudal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aris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rigins of Japanese Feudal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into – religions based on spiritual devotion to nature spir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ddhist virtues are added to cul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ful landowners and warlords challenge the authority of the emper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fer farmers protection under private arm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ust like Europe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5" descr="shinto_schrein_01_1024x768"/>
          <p:cNvPicPr/>
          <p:nvPr/>
        </p:nvPicPr>
        <p:blipFill>
          <a:blip r:embed="rId1"/>
          <a:stretch/>
        </p:blipFill>
        <p:spPr>
          <a:xfrm>
            <a:off x="3581280" y="2687760"/>
            <a:ext cx="5562720" cy="41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val warlords needed bodyguards (Samurai) “one who serves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llow the warriors code “Bushido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arless, reverence to god, generosity to po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norable death was better than long lif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men are equal, not precious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r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gun – “supreme general” strongest warlord who had a near dictatorsh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imyo – strong warlords (knight/shogu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10" descr="daimyo_mounted_japanese_war_lord_pg112-thumb"/>
          <p:cNvPicPr/>
          <p:nvPr/>
        </p:nvPicPr>
        <p:blipFill>
          <a:blip r:embed="rId1"/>
          <a:stretch/>
        </p:blipFill>
        <p:spPr>
          <a:xfrm>
            <a:off x="5715000" y="342900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2" descr="daimyo_180"/>
          <p:cNvPicPr/>
          <p:nvPr/>
        </p:nvPicPr>
        <p:blipFill>
          <a:blip r:embed="rId2"/>
          <a:stretch/>
        </p:blipFill>
        <p:spPr>
          <a:xfrm>
            <a:off x="0" y="3394080"/>
            <a:ext cx="472428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-523404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5" name="Group 4"/>
          <p:cNvGrpSpPr/>
          <p:nvPr/>
        </p:nvGrpSpPr>
        <p:grpSpPr>
          <a:xfrm>
            <a:off x="228600" y="685800"/>
            <a:ext cx="8686440" cy="5715000"/>
            <a:chOff x="228600" y="685800"/>
            <a:chExt cx="8686440" cy="5715000"/>
          </a:xfrm>
        </p:grpSpPr>
        <p:sp>
          <p:nvSpPr>
            <p:cNvPr id="166" name="Pyr1"/>
            <p:cNvSpPr/>
            <p:nvPr/>
          </p:nvSpPr>
          <p:spPr>
            <a:xfrm>
              <a:off x="3608640" y="685800"/>
              <a:ext cx="1947240" cy="126684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mperor/Shogu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Pyr2"/>
            <p:cNvSpPr/>
            <p:nvPr/>
          </p:nvSpPr>
          <p:spPr>
            <a:xfrm>
              <a:off x="2481480" y="1952640"/>
              <a:ext cx="4191480" cy="148608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aimy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Pyr3"/>
            <p:cNvSpPr/>
            <p:nvPr/>
          </p:nvSpPr>
          <p:spPr>
            <a:xfrm>
              <a:off x="1366200" y="3438720"/>
              <a:ext cx="6421320" cy="1484280"/>
            </a:xfrm>
            <a:prstGeom prst="pi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amura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Pyr4"/>
            <p:cNvSpPr/>
            <p:nvPr/>
          </p:nvSpPr>
          <p:spPr>
            <a:xfrm>
              <a:off x="228600" y="4915080"/>
              <a:ext cx="8686440" cy="14857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tisans, Peasants, Mercha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st Samurai Cli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50 – 7: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was the difference between the emperor and the shogun?  Is that similar to European societ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29200" y="3581280"/>
            <a:ext cx="411480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Gothic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155600" y="11520"/>
            <a:ext cx="7776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5" descr="cid_2349319"/>
          <p:cNvPicPr/>
          <p:nvPr/>
        </p:nvPicPr>
        <p:blipFill>
          <a:blip r:embed="rId1"/>
          <a:stretch/>
        </p:blipFill>
        <p:spPr>
          <a:xfrm>
            <a:off x="4038480" y="0"/>
            <a:ext cx="5105520" cy="3403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cid_aj2945_b"/>
          <p:cNvPicPr/>
          <p:nvPr/>
        </p:nvPicPr>
        <p:blipFill>
          <a:blip r:embed="rId2"/>
          <a:stretch/>
        </p:blipFill>
        <p:spPr>
          <a:xfrm>
            <a:off x="0" y="3486240"/>
            <a:ext cx="4952880" cy="337176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8"/>
          <p:cNvSpPr/>
          <p:nvPr/>
        </p:nvSpPr>
        <p:spPr>
          <a:xfrm>
            <a:off x="2362320" y="11793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y Butt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usa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65530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al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end Constantinople &amp; Palestine from Musli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unite West and E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in Christian control for Jerusale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 fa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b for knigh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ans/business gro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supplies, weapon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5" descr="crusades"/>
          <p:cNvPicPr/>
          <p:nvPr/>
        </p:nvPicPr>
        <p:blipFill>
          <a:blip r:embed="rId1"/>
          <a:stretch/>
        </p:blipFill>
        <p:spPr>
          <a:xfrm>
            <a:off x="5797440" y="2666880"/>
            <a:ext cx="33465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usade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74760"/>
            <a:ext cx="8229600" cy="48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French and other Europeans besiege Jerusalem in 1099 (Only clear victo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Jerusalem falls to Salad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ichard the Lionhearted (Eng) leads buts is kidnapped on retu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nsom breaks England (King Joh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Robin hoo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5" descr="Richard-Lionheart"/>
          <p:cNvPicPr/>
          <p:nvPr/>
        </p:nvPicPr>
        <p:blipFill>
          <a:blip r:embed="rId1"/>
          <a:stretch/>
        </p:blipFill>
        <p:spPr>
          <a:xfrm>
            <a:off x="7066080" y="4503600"/>
            <a:ext cx="2077920" cy="23544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robin_hood_men_in_tights"/>
          <p:cNvPicPr/>
          <p:nvPr/>
        </p:nvPicPr>
        <p:blipFill>
          <a:blip r:embed="rId2"/>
          <a:stretch/>
        </p:blipFill>
        <p:spPr>
          <a:xfrm>
            <a:off x="3456000" y="4842000"/>
            <a:ext cx="2016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st Roman Euro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90160" y="969480"/>
            <a:ext cx="8853480" cy="51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vading groups threaten common settl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kings, Magyars, Musli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id quickly, before defenses can be muste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ings controlled most land but people did not obey/ser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udalism will be the resul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5" descr="vikings"/>
          <p:cNvPicPr/>
          <p:nvPr/>
        </p:nvPicPr>
        <p:blipFill>
          <a:blip r:embed="rId1"/>
          <a:stretch/>
        </p:blipFill>
        <p:spPr>
          <a:xfrm>
            <a:off x="0" y="2514600"/>
            <a:ext cx="3886200" cy="43434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magyars7a"/>
          <p:cNvPicPr/>
          <p:nvPr/>
        </p:nvPicPr>
        <p:blipFill>
          <a:blip r:embed="rId2"/>
          <a:stretch/>
        </p:blipFill>
        <p:spPr>
          <a:xfrm>
            <a:off x="5440320" y="2514600"/>
            <a:ext cx="3703680" cy="434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Christians Join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giveness of sins (Golden Ticke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yalty to king/lo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venture/weal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5" descr="first_crusad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 of the Crusa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llustrated the power of the Chu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pe’s influence decli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ed religious persec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rchants became wealt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ideas, products . .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rd/Knight weaken &amp; Kings grow in pow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ousands left home and traveled to new lan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eft Women and others to higher positions in socie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5" descr="Crusades"/>
          <p:cNvPicPr/>
          <p:nvPr/>
        </p:nvPicPr>
        <p:blipFill>
          <a:blip r:embed="rId1"/>
          <a:stretch/>
        </p:blipFill>
        <p:spPr>
          <a:xfrm>
            <a:off x="7162920" y="1066680"/>
            <a:ext cx="19810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07696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ddle Ages Time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015560"/>
            <a:ext cx="8076960" cy="56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rections: Put the important dates of the Middle Ages on a timeline. Be sure to follow proper timeline format &amp; ru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t Dat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800 AD: Charlemagne crowned Holy Roman Emper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1400 AD: Middle Ages e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1347 AD: Bubonic plague devastates Euro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1095 AD: First Crusade beg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500 AD: Middle Ages begi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1215 AD: King John approves Magna Car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gue Vide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rt at 13: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g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ease that spread from China via trade rou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alian traders move it through Eur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cities forbade foreign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word quarantine comes from giorni, ships had to wait 40 days to dock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areas lost 75% of pop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5" descr="plaguemap"/>
          <p:cNvPicPr/>
          <p:nvPr/>
        </p:nvPicPr>
        <p:blipFill>
          <a:blip r:embed="rId1"/>
          <a:stretch/>
        </p:blipFill>
        <p:spPr>
          <a:xfrm>
            <a:off x="0" y="237960"/>
            <a:ext cx="9144000" cy="65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ing around the Ros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around the Rosy = hemorrhage in the skin (bubo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cket full of posies = herbs/flowers to stop the bad sm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hes . . .we all fall down = death/cre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5" descr="Cheob6x4_w_inset"/>
          <p:cNvPicPr/>
          <p:nvPr/>
        </p:nvPicPr>
        <p:blipFill>
          <a:blip r:embed="rId1"/>
          <a:stretch/>
        </p:blipFill>
        <p:spPr>
          <a:xfrm>
            <a:off x="0" y="4786200"/>
            <a:ext cx="3048120" cy="20718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doctor"/>
          <p:cNvPicPr/>
          <p:nvPr/>
        </p:nvPicPr>
        <p:blipFill>
          <a:blip r:embed="rId2"/>
          <a:stretch/>
        </p:blipFill>
        <p:spPr>
          <a:xfrm>
            <a:off x="7810560" y="4238640"/>
            <a:ext cx="133344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ffects of the Plag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pulation fall (centuries to recov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de decline (high pric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rfs runaw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asants revolt against l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demand but low wages still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ews blamed – persecu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ubt in relig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rfare follows too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lapse of Rome = Middle A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ruption of Trade – Invasions on rou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fall of Cities – cities abando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pulation Shift – left cities for ru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line of Learning – low litera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ck of Common Language – Vernacular vs. Lat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of Govt. changed – less loyalty to law and l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83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3c1c7"/>
                </a:solidFill>
                <a:latin typeface="Calibri"/>
              </a:rPr>
              <a:t>Assign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8760" y="1600200"/>
            <a:ext cx="7675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2ec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ece4"/>
                </a:solidFill>
                <a:latin typeface="Calibri"/>
              </a:rPr>
              <a:t>You are to create a comic strip that shows the major events that changed Western Europe from the Roman Empire to a Feudal socie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2ec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ece4"/>
                </a:solidFill>
                <a:latin typeface="Calibri"/>
              </a:rPr>
              <a:t>Should be at least 6 scenes lo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088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eudal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831960"/>
            <a:ext cx="86868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eudalism – system of governanc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ased on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bligations of loyalty/serv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o was involved? How did it wor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rd/landowner – grants fief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lands in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xchange for military service . .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Vassals receive land and serv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o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Knights – warriors who fough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or lords in return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r 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eudalism is based 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4" descr="feudalism"/>
          <p:cNvPicPr/>
          <p:nvPr/>
        </p:nvPicPr>
        <p:blipFill>
          <a:blip r:embed="rId1"/>
          <a:stretch/>
        </p:blipFill>
        <p:spPr>
          <a:xfrm>
            <a:off x="5257800" y="4648320"/>
            <a:ext cx="3886200" cy="22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eudal Pyram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4" descr="Feudalismchart"/>
          <p:cNvPicPr/>
          <p:nvPr/>
        </p:nvPicPr>
        <p:blipFill>
          <a:blip r:embed="rId1"/>
          <a:stretch/>
        </p:blipFill>
        <p:spPr>
          <a:xfrm>
            <a:off x="228600" y="352440"/>
            <a:ext cx="8915400" cy="650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36400"/>
            <a:ext cx="822960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WHAT CARD ARE YOU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783720"/>
            <a:ext cx="868680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KING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CARDS EVERYONE WANTS TO BE FRIENDS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QUEEN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WITH.  THEY ARE ONLY FRIENDS WITH O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OTH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JACK &amp; 10’S       ARE CARDS THAT ARE GOOD TO B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RIENDS WITH.  CARDS YOU SHOULD B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ICE TO, UNLESS YOU ARE ABOVE TH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9’S,8’S,7’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ARE CARDS THAT ARE AVERAGE.  THE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RE NEITHER LIKEABLE NOR DISLIKEA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6’S, 5’S, 4’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THESE ARE THE CARDS YOU DO NO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’S, 2’S, ACES     WANT TO BE FRIENDS WITH.  THERE I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O NEED TO BE NICE TO THESE CARDS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13040" y="274320"/>
            <a:ext cx="4073400" cy="90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5" descr="manor"/>
          <p:cNvPicPr/>
          <p:nvPr/>
        </p:nvPicPr>
        <p:blipFill>
          <a:blip r:embed="rId1"/>
          <a:stretch/>
        </p:blipFill>
        <p:spPr>
          <a:xfrm>
            <a:off x="0" y="0"/>
            <a:ext cx="46134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3"/>
          <p:cNvSpPr/>
          <p:nvPr/>
        </p:nvSpPr>
        <p:spPr>
          <a:xfrm>
            <a:off x="4613400" y="1179360"/>
            <a:ext cx="4073400" cy="49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nks nobles and peas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rfare limits trade – manor provides the essent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asant lif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erfs were peasants that couldn’t own land – inherited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ied to the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Harsh: few live beyond 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Dangers: Famine, disease and inj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are the qualities of a Knigh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249200"/>
            <a:ext cx="8229600" cy="518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8713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nights were military servants of a lo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8713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eived land in exchange for skills of w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8713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eted in tournaments to earn fame, money, more infl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8713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llowed a code of Chival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58713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pectful, poetic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2" descr="http://rds.yahoo.com/_ylt=A0WTefhGjkhJfU8Ay7OjzbkF/SIG=1305agj2o/EXP=1229578182/**http%3A/www.cs.ucr.edu/~uamaya/Paris_et_NormandiePics/Medieval%2520Knight.JPG"/>
          <p:cNvPicPr/>
          <p:nvPr/>
        </p:nvPicPr>
        <p:blipFill>
          <a:blip r:embed="rId1"/>
          <a:stretch/>
        </p:blipFill>
        <p:spPr>
          <a:xfrm>
            <a:off x="5559480" y="4167360"/>
            <a:ext cx="3584520" cy="2690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7T05:00:12Z</dcterms:created>
  <dc:creator>Owner</dc:creator>
  <dc:description/>
  <cp:keywords>mesh swirls smoke floral leaves curls fade layers</cp:keywords>
  <dc:language>en-US</dc:language>
  <cp:lastModifiedBy>Kuenzi, Robert</cp:lastModifiedBy>
  <dcterms:modified xsi:type="dcterms:W3CDTF">2014-01-03T20:56:58Z</dcterms:modified>
  <cp:revision>22</cp:revision>
  <dc:subject/>
  <dc:title>Knighthoo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39871033</vt:lpwstr>
  </property>
</Properties>
</file>